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6061-659E-4EC9-A6D0-4187CE109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6 approaches you can use to establish an open conversation or communication wi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list.  Let’s look at each approach and discuss what it means and how we can use it in th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definition and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provide oth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definition and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provide oth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definition and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provide oth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definition and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provide oth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definition and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provide oth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definition and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provide oth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C69-59F5-4F46-B6CD-05D4AF80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2B0-35E4-420B-8995-A6466FED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222-E4FC-4927-8DE9-B42DB32F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46B-5313-4C4D-A31B-39ADB042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F84D-A03F-4F20-AA0A-27F4B6F8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9E63-4459-4920-B7F3-63B0DCB9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2B1D-6DB6-4A9A-9F06-FB66E3D8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E48C-FD4F-4ECB-A6BB-2970E08F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8105-3369-4FE5-A1E8-A04A9EA5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C40D-04CF-4B66-B5CA-CB1CD51A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825E-D983-489B-8B96-3920AB18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814-A86E-4963-ADFA-167511C3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F1AC-CE72-42C9-888C-E12FB1D6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853C-3B6F-46DA-A21B-90CD4A87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EDA6-59AA-46DD-96BB-A6C4A276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D57C-D575-4803-8F63-FBBE4BB1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1485-7880-439E-B01F-1C755C10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04F-52EA-460F-BA61-52922D97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414-B5A3-4533-BA3B-98B7C56A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02A-A971-4D86-87EA-89316137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374-19AD-4B8F-BC5C-57F1D177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29C-8C17-4BC7-A759-306E76D9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244-DA94-4BB1-8AA3-351B08E2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6E3-6B9C-4B55-9F13-C1C650B4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EABE-E98C-4913-986F-560B3BBB9E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9951-33D6-4D3E-928F-ED12ABF59F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cess for Communi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goal and reason for th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he aud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communication approach that opens a two-way conver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 Approaches to Open Home-School Communic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low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ing for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lly exchan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liste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struc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ating and elabor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ing an explanation of how to help a student with a homework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llowing u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inding and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ind parent about due date for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sking for Hel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ing for as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ing parent to share information about their child (strengths and nee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vea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ing information ope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ing parents of your class goals and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formally Exchang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a reciprocal dialo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ing time to sit and chat with no formal age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e Listen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ening and paying at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ly listening to a parent express their concerns, opinion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3:50:15Z</dcterms:created>
  <dc:creator>pgcps</dc:creator>
  <dc:description/>
  <dc:language>en-US</dc:language>
  <cp:lastModifiedBy>pgcps</cp:lastModifiedBy>
  <dcterms:modified xsi:type="dcterms:W3CDTF">2009-03-26T13:52:07Z</dcterms:modified>
  <cp:revision>1</cp:revision>
  <dc:subject/>
  <dc:title>Process for Communication</dc:title>
</cp:coreProperties>
</file>